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A0129-AD8D-471A-A3D6-899CC805CFB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97CC9-959E-4176-93A8-96B87281C533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맑은 고딕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따질수록 포함시켜야 할 기준이 무척 많아짐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맑은 고딕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어떤 기준은 매우 주관적인 것으로 보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F7519-EC97-4416-A094-F4B75F3638A7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맑은 고딕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러한 기준들을 포함시키는 이유는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맑은 고딕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객관적으로 빠른 것을 객관적으로 느린 것보다 왜 좋은 것으로 평가하는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165E1-6412-49F7-9EB5-4253CB067AA0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376E0-3CCE-4AA4-8714-F593AA422FDE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9D58B-85DF-4DB5-B2F8-D0C13C2E9CBB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040" indent="-255600"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좋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’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기술의 평가 항목들 불완전하고 서로 상충됨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365040" indent="-255600"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시간과 공간을 초월하여 인간이 단일한 요구를 가지고 있다는 잘못된 전제에서 출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1" marL="657360" indent="-246240">
              <a:spcBef>
                <a:spcPts val="451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인간들이 서로 동일한 목록의 요구를 하는 것처럼 보일 때조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각 목록마다 부여하는 가중치가 다를 수 있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365040" indent="-255600"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기술이 단선적으로 진보하고 있다는 사실 자체가 우리의 잘못된 기억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1" marL="657360" indent="-246240">
              <a:spcBef>
                <a:spcPts val="451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현재 우리 주변의 기술 이외의 기술은 보이지 않다보니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우리는 보이는 기술이 발명되기까지의 단선적인 흐름만 상상하게 되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머지는 무시하게 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FE28F-6DC0-4ED1-8CC6-AACD20AD8DDD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7D4D6-4175-4396-BE47-1580DE1D97CA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필요 개념을 인정하더라도 그것은 시공간을 초월한 인류 공통의 필요가 아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현상 유지의 생존을 위해서는 복잡한 기술이 필요하지 않으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더 나은 삶을 위한 필요는 사살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욕망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에 가까운 것으로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 항목들은 시대와 장소에 따라 끊임없이 변화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때로는 그냥 만들 수 있기 때문에 만들기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종의 놀이처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8E285-F808-4A42-8025-F015660E7DF1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E6C9E-64EF-47F9-99D5-8543B3E8993C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39DD3-7CAF-4CB4-9738-A544F16ED475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A71D7-44D6-4CF7-B136-A3ACF3619B04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60FF1-8F16-4E29-B24F-1605993274E7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왜 인간의 시신경은 상이 맺히는 망막 위에서 출발할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처음에 그렇게 시작했기 때문에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구조적 한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3C628-A762-461A-A9F9-5D6830A9725D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F6F9-E684-474A-B634-47B5C3451348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8D1B8-A0EC-4AC8-8E47-5A5EC7FFED8B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657360" indent="-246240">
              <a:spcBef>
                <a:spcPts val="451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메소아메리카인들은 인형에 바퀴를 달 정도로 바퀴 구동의 원리를 알고 있었지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실제 물품 수송용으로는 사용하지 않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 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들의 지역이 바퀴 달린 탈것에 부적합했기 때문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1" marL="657360" indent="-246240">
              <a:spcBef>
                <a:spcPts val="451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3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세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7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세기 근동지역과 북아프리카에서는 낙타가 바퀴를 대체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는 기술의 역행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No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낙타가 바퀴보다 훨씬 이점이 많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1" marL="657360" indent="-246240">
              <a:spcBef>
                <a:spcPts val="451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바퀴가 그 엄청난 중요성을 인정받은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9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세기 말 이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서구 유럽 사회의 맥락 덕분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18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세기 이래 도로가 정비된 서구 유럽에서 바퀴 중요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9F779-1D87-429C-A782-98D2D7A6FC4B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A2797-096F-49EF-B3B8-753AF1AA7791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생물의 진화는 비목적적인 과정이지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기술의 진화는 인간의 목적의식적인 활동이 개입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생물은 스스로 재생산하지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인공물은 인간에 의해 재생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생물의 변이는 부모로부터 무작위적으로 재생산되지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인공물의 변이는 인간이 목적의식적으로 변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제작하여 생산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래서 새로운 인공물의 발명 과정에는 무작위적으로 보이는 상상력뿐 아니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사회경제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화적 요구도 개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점은 다윈주의와 차별화되는 점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776B3-809F-4D6B-99DF-A285DCFA07B7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자식은 부모의 교잡 및 돌연변이의 결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발명이라는 것이 목적하는 바가 있다고 뚝딱 나오는 것이 아니라는 점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새로운 인공물은 대부분 기존 인공물들의 작은 변형 및 조합의 누적 결과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즉 기술 개발은 기존 기술의 조건에 묶여 있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때로 새로운 기술은 특별한 요구나 목적의식 없이도 기존 기술로부터 보이게 된 가능성 그 자체만으로 발명되기도 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793C6-1022-4E49-8133-05C908F24EBD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분화는 다양한 환경에 따른 자연선택의 결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기술은 단선적으로 진보하는 것이 아니라 가지치기 방식으로 진화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는 다양한 맥락에 놓인 기술이 받는 다양한 종류의 선택압 때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우리가 오늘날 직관적으로 떠올릴 수 있는 기술의 선택 기준보다 훨씬 다양한 기준이 있을 수 있다는 점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리고 우리가 흔히 동질적이라고 보는 집단이 서로 다른 이해관계를 가질 수 있다는 점에 유의해야 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기술이 인간의 요구나 욕망을 실현하는 방향으로 변화해왔다는 것은 그리 틀린 말은 아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러나 그 요구나 욕망은 우리가 상상할 수 있는 것보다 훨씬 다양하고 복잡하며 자주 그들끼리 대립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또한 그 요구들을 조정하는 방법 역시 매우 다양하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래서 우리는 기술의 변화 과정을 자세히 들여다 볼 때마다 직관과 배치되는 복잡한 과정을 깨닫게 되면서 깜짝깜짝 놀라게 되는 것이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71533-C285-4CD7-80A3-A2903962B0E3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99A53-BD6A-472F-862A-252E4A2DB621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A6CB1-8BE7-4447-8A56-E15984915E74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8FAB1-20AB-4103-9380-B7C66DC97941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6D26B-87C6-426D-9473-5C358DEBEE7A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FB855-5818-4C92-B537-A75BB00A7A8C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E182E-18D4-474C-8BCC-224F0F49FC3D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402F0-F595-4465-8898-4AB0DF97C9A9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F5F02-59E0-4830-8D1B-92842A4BA821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6471E-6058-4ABA-86E3-B16F22044CD6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7BA5-9681-4428-A1B4-6BFB1EAD1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00D8-9802-4DA4-845B-D8E39BFFC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A7A1-95AB-4C71-8AFE-BEB04DC0C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FD91-D5CB-487D-A4DC-EE0493584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79EC-3D6A-4B73-985E-D05C5AC7A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A105-E1E3-47AC-A307-DF406E7F6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EDAB-9750-4E1D-B294-E945C273F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CA53-A811-4EFA-936B-100BFA863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6496-9DD9-4483-A5C8-64B363E0C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75A8-2C35-4476-82B1-38CAA23B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E08A-BF88-49FB-9116-F5C4691D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EBAF-5C67-465C-8F99-758D7DBF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fc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fc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fc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Georgia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492B8-6D5D-43C9-96C8-A616CEFCAED4}" type="slidenum">
              <a:rPr b="0" lang="ko-KR" sz="1200" spc="-1" strike="noStrike">
                <a:solidFill>
                  <a:srgbClr val="ffffff"/>
                </a:solidFill>
                <a:latin typeface="Georgia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000"/>
                </a:solidFill>
                <a:latin typeface="Trebuchet MS"/>
              </a:rPr>
              <a:t>기술 진화와 진보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어떤 기준을 포함시켜야 하나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안전성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조작용이성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아름다움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내구성 등은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왜 그러한 기준이 포함될까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결국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‘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인간에게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’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좋은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즉 인간의 선호 가치 반영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선택지 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2. ‘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인간에게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’ 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좋은 기술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인간의 필요와 소망을 실현해주는 기술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그렇다면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기술은 인간의 필요를 점점 더 </a:t>
            </a:r>
            <a:br>
              <a:rPr sz="2600"/>
            </a:b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잘 실현해주는 방향으로 발전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00730030.jpg"/>
          <p:cNvPicPr/>
          <p:nvPr/>
        </p:nvPicPr>
        <p:blipFill>
          <a:blip r:embed="rId1"/>
          <a:stretch/>
        </p:blipFill>
        <p:spPr>
          <a:xfrm>
            <a:off x="324000" y="404640"/>
            <a:ext cx="8526240" cy="51562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71280" y="5516280"/>
            <a:ext cx="69944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ffff"/>
                </a:solidFill>
                <a:latin typeface="Trebuchet MS"/>
              </a:rPr>
              <a:t>기술의 진보가 우리에게 해준 일</a:t>
            </a: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Trebuchet MS"/>
              </a:rPr>
              <a:t>비판적 검토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더 빠른 속도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더 높은 효율성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더 강력한 힘 등은 시대와 장소를 초월한 인간 공통의 요구인가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인간의 요구들이 서로 상충하진 않는가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기술의 진보는 행복을 가져다 주는가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인간의 요구를 실현하는 기술의 변화가 일정한 방향성을 가질까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인간의 요구가 기술 진보의 원동력인가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기술진화론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(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바살라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)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“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기술은 단선적으로 진보하기보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기존 기술로부터의 다양한 </a:t>
            </a:r>
            <a:r>
              <a:rPr b="1" lang="ko-KR" sz="2600" spc="-1" strike="noStrike">
                <a:solidFill>
                  <a:srgbClr val="ffc000"/>
                </a:solidFill>
                <a:latin typeface="Georgia"/>
              </a:rPr>
              <a:t>변이 생산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과 다양한 정치사회문화적 맥락에서의 </a:t>
            </a:r>
            <a:r>
              <a:rPr b="1" lang="ko-KR" sz="2600" spc="-1" strike="noStrike">
                <a:solidFill>
                  <a:srgbClr val="ffc000"/>
                </a:solidFill>
                <a:latin typeface="Georgia"/>
              </a:rPr>
              <a:t>선택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에 의해 </a:t>
            </a:r>
            <a:r>
              <a:rPr b="1" lang="ko-KR" sz="2600" spc="-1" strike="noStrike">
                <a:solidFill>
                  <a:srgbClr val="ffc000"/>
                </a:solidFill>
                <a:latin typeface="Georgia"/>
              </a:rPr>
              <a:t>분기적으로 진화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한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”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1. </a:t>
            </a:r>
            <a:r>
              <a:rPr b="1" lang="ko-KR" sz="4400" spc="-1" strike="noStrike">
                <a:solidFill>
                  <a:srgbClr val="ffffff"/>
                </a:solidFill>
                <a:latin typeface="Trebuchet MS"/>
              </a:rPr>
              <a:t>기술은 잉여의 산물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기술은 필요 이상으로 무척 다양하다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다양한 기술은 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생존을 위한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) </a:t>
            </a: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필요의 산물이라기보다 욕망과 상상력의 산물이다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539640" y="981000"/>
            <a:ext cx="81835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2. </a:t>
            </a:r>
            <a:r>
              <a:rPr b="1" lang="ko-KR" sz="4400" spc="-1" strike="noStrike">
                <a:solidFill>
                  <a:srgbClr val="ffffff"/>
                </a:solidFill>
                <a:latin typeface="Trebuchet MS"/>
              </a:rPr>
              <a:t>단선적 진보관 비판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기술의 변화과정은 단선적인 진보가 아니라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분기적인 진화를 통해 더 적절히 묘사되며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그 진화의 경로를 보여주는 계통수를 그릴 수 있다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http://liftlab.com/think/imgblog/pittrivers.jpeg"/>
          <p:cNvPicPr/>
          <p:nvPr/>
        </p:nvPicPr>
        <p:blipFill>
          <a:blip r:embed="rId2"/>
          <a:stretch/>
        </p:blipFill>
        <p:spPr>
          <a:xfrm>
            <a:off x="971640" y="1197000"/>
            <a:ext cx="73454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http://deeperwonderment.files.wordpress.com/2011/02/dynatac-evolution.png"/>
          <p:cNvPicPr/>
          <p:nvPr/>
        </p:nvPicPr>
        <p:blipFill>
          <a:blip r:embed="rId2"/>
          <a:stretch/>
        </p:blipFill>
        <p:spPr>
          <a:xfrm>
            <a:off x="755640" y="333360"/>
            <a:ext cx="763272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2’. </a:t>
            </a:r>
            <a:r>
              <a:rPr b="1" lang="ko-KR" sz="4400" spc="-1" strike="noStrike">
                <a:solidFill>
                  <a:srgbClr val="ffffff"/>
                </a:solidFill>
                <a:latin typeface="Trebuchet MS"/>
              </a:rPr>
              <a:t>기술 변화의 누적성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새로운 기술은 천재적인 개인의 발명이라기보다 기존 기술들의 작은 변형 또는 조합의 누적적 결과이다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기술의 혁신은 기존 기술이 제공하는 제약과 가능성에 얽매여 있음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. 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요구가 있다고 뚝딱 만들어지는 것이 아님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과학 이론이 있다고 뚝딱 만들어지는 것도 아님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http://4.bp.blogspot.com/_x4_N2JYJj3c/S8Bb512O_-I/AAAAAAAAAi0/6SdB2Xv1S5s/s1600/clips_classification.jpg"/>
          <p:cNvPicPr/>
          <p:nvPr/>
        </p:nvPicPr>
        <p:blipFill>
          <a:blip r:embed="rId2"/>
          <a:stretch/>
        </p:blipFill>
        <p:spPr>
          <a:xfrm>
            <a:off x="1403280" y="-54000"/>
            <a:ext cx="5761080" cy="69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3. </a:t>
            </a:r>
            <a:r>
              <a:rPr b="1" lang="ko-KR" sz="4400" spc="-1" strike="noStrike">
                <a:solidFill>
                  <a:srgbClr val="ffffff"/>
                </a:solidFill>
                <a:latin typeface="Trebuchet MS"/>
              </a:rPr>
              <a:t>선택압으로서의 사회적 맥락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새로운 기술 중 일부가 주어진 사회적 맥락 하에서 선택된다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기술에 대한 선택압에는 생존이나 경제적 요구 외에도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사회문화적 태도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가치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기술적 유행의 추구 등의 요인도 포함된다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시대와 문화에 따라 선택 기준 다름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539640" y="1400040"/>
            <a:ext cx="4392720" cy="4583160"/>
          </a:xfrm>
          <a:prstGeom prst="rect">
            <a:avLst/>
          </a:prstGeom>
          <a:ln w="0">
            <a:noFill/>
          </a:ln>
        </p:spPr>
      </p:pic>
      <p:sp>
        <p:nvSpPr>
          <p:cNvPr id="101" name="TextBox 4"/>
          <p:cNvSpPr/>
          <p:nvPr/>
        </p:nvSpPr>
        <p:spPr>
          <a:xfrm>
            <a:off x="1314000" y="6093000"/>
            <a:ext cx="279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Georgia"/>
                <a:ea typeface="맑은 고딕"/>
              </a:rPr>
              <a:t>아스텍 인이 만든 바퀴달린 점토 인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076720" y="1600200"/>
            <a:ext cx="36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아메리카의 아스텍인들은 왜 바퀴기술을 발전시키지 않았을까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4. </a:t>
            </a:r>
            <a:r>
              <a:rPr b="1" lang="ko-KR" sz="4400" spc="-1" strike="noStrike">
                <a:solidFill>
                  <a:srgbClr val="ffffff"/>
                </a:solidFill>
                <a:latin typeface="Trebuchet MS"/>
              </a:rPr>
              <a:t>진보 개념 재검토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기술은 그것이 발명되고 사용되는 문화 속에서 평가되어야 한다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. 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시공간을 초월한 기술 진보의 평가 기준은 없다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진보 개념을 유지하려면 그 의미를 바꾸어야 한다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생물 진화 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vs. 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기술 진화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기술 변화에 대한 생물 진화 유비는 적절한가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진화론이 주는 통찰 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1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진화론적 사고는 새로운 기술 등장의 제약조건이자 가능성을 제공하는 기존 기술들에 주목하게 해줌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진화론이 주는 통찰 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2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진화론적 사고는 특정한 기술을 선택하거나 선택하지 않은 사회의 구체적 맥락에 주목하도록 해줌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기술 진화론의 약점은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너무 당연한 주장 아닌가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새로운 기술을 추동하거나 선택하는 요인에 대해 </a:t>
            </a:r>
            <a:br>
              <a:rPr sz="2600"/>
            </a:b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그때그때 다르다는 주장 이상이 없지 않은가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기술이 진보하지 않았다는 주장은 직관과 배치됨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Trebuchet MS"/>
              </a:rPr>
              <a:t>읽을거리와 질문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바살라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「진화와 진보」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『</a:t>
            </a: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기술의 진화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』 </a:t>
            </a: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중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)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바살라는 기술의 진보를 부정하는가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? 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바살라는 인류의 진보와 기술의 진보의 관계를 어떻게 설정하고 있는가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빠른 교통수단이 필요치 않은 사회에서 빠른 교통수단이 등장할 수 있을까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? 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만약 등장했다면 그것을 기술의 진보로 간주할 수 있을까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필요 이상으로 얇은 핸드폰을 기술의 진보로 간주할 수 있을까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당신은 기술이 진보한다고 생각하는가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5" name="_x68634584" descr="EMB00000e8481f8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65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9" name="_x68621976" descr="EMB00000e8481f9"/>
          <p:cNvPicPr/>
          <p:nvPr/>
        </p:nvPicPr>
        <p:blipFill>
          <a:blip r:embed="rId2"/>
          <a:stretch/>
        </p:blipFill>
        <p:spPr>
          <a:xfrm>
            <a:off x="611280" y="138240"/>
            <a:ext cx="7777080" cy="65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기술은 진보한다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!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“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기술은 어느 사회에서나 더 좋은 방향으로 발전해 왔으며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앞으로도 그럴 것이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”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기차는 점점 빨라지고 있으므로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운송기술은 진보하고 있다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단위면적당 농부 한 사람 당 농업생산량은 점점 증가하고 있으므로 농업 기술은 진보하고 있다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. 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CPU</a:t>
            </a: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의 처리속도는 점점 빨라지고 있으므로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컴퓨터 기술은 진보하고 있다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22160" y="2852640"/>
            <a:ext cx="77724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기술이 더 빠른 속도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더 높은 효율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더 강력한 힘 등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점점 좋은 방향으로 개선되어 간다는 사람들의 직관을 반영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좋은 기술이란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선택지 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1. ‘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객관적으로 좋은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’ 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기술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효율성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힘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빠르기 등 객관적 기준에 의해 좋은 기술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08:01:31Z</dcterms:created>
  <dc:creator>zolaist</dc:creator>
  <dc:description/>
  <dc:language>en-US</dc:language>
  <cp:lastModifiedBy>zolaist</cp:lastModifiedBy>
  <dcterms:modified xsi:type="dcterms:W3CDTF">2011-05-25T11:03:00Z</dcterms:modified>
  <cp:revision>4</cp:revision>
  <dc:subject/>
  <dc:title>기술 진화와 진보</dc:title>
</cp:coreProperties>
</file>